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041-F3D7-40A4-A68A-6A766148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682-81A5-4D09-9E7A-D20151F1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01A-6111-4991-A0E5-588B6862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D13-B3E4-437B-B309-904024B3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E71A-C99E-4018-9D0A-08DF536E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F06C-DD93-4EC6-A597-D2E71FE9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9DAC-C1EE-4FBF-9AFB-A7702AB3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3302-CC79-44EB-896A-81F30EEC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A6EB-6831-4ECB-AEDC-4803CDAA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5B56-81B3-4CD5-90B8-67D5B011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978B-A113-4B5D-8CA1-007706B4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CF1D-8E79-4E7C-93CE-C70708C4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7478-14F3-4667-AB4A-4A59306C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7013-0213-4C77-A40E-7432AEC0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9BAB-CC22-470F-A711-F447AB34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95A1-E9C8-49AC-8F01-0FEDDDC2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A8D2-F011-40F6-9A66-4E657EC3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5B8C-93D2-4176-9412-0C36BEBA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5F4DF-1C9D-4C6C-9D9A-2162A8A6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17EFF-51E6-477E-85AE-78E96234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4ECF5-FAB2-43A4-B9D1-1A8D869F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BB7A-2172-471D-BAAE-5167987F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4E5-0953-4E41-93FB-9AC71F32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E020-FDAA-4218-97C4-FCAFDC26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100D4-9A37-496F-A4AC-246B0615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88DC8-177F-4B7D-8A2B-FDE3BE84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1622-039F-48F9-B4B9-DDCF132E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7C53-3785-461A-8443-500A433D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F8B7-8D9C-4A33-A65F-A7DF1B3F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1A67-F4BD-4440-8756-EFDF383F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B7C57-D7C9-418D-A246-B260C20F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92984-46DA-4BF8-8EDD-2FF2C881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364D3-3D00-408F-A36C-DBB52557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05A-8A6A-43CC-809C-14CE6C89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8E26-BB30-4D33-925B-F812E706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A94DF-18A2-4477-BB25-AAC6D87F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73042-DC6B-436E-BDE7-C50A1EF3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1F8F7-C3E5-4710-BC9D-035C58D7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1C89B-07B1-4DD9-8265-15DDDD81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84398-40ED-4D88-93CA-8EDE69A9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BE2A4-5F04-474E-82E3-B855751A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B4B7B-CB15-47E5-9C29-15BF3442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C2FA6-A884-4C9E-A6C5-4CFDDA4A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7CC66-2BF2-44EE-A1E6-2EBE78DA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182-17B4-485A-9AE5-1C8E28FE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2EAEE-564A-4CCB-8036-5E709320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8FC00-E103-413D-9575-D572DE99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FEF9B-61A0-4D6A-8BF2-ED1317B6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F5896-1988-4B94-ACC5-A5F237CA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1521C-1E3B-469B-8CAF-2ED582E1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72D6D-3BB4-4C57-9596-49E739A1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7145A-3D34-4608-B376-C6682CE4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E16BF-3AE1-4A54-A1A2-83A5E08F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AB7ED-DCF9-4AF8-ABF2-66044E4C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0727C-4F82-4EFC-8BDF-63455DD4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620-9BA2-45AF-AC74-EE4D928D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381E1-3627-4013-A60D-6DE4E47F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5D36D-FC87-4003-A3E7-E5147328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9E61E-95BF-4E5B-9C25-40842FA6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B24F0-5844-4810-9560-7F83BBD3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6132D-0F0A-412D-B9FD-E6D3A078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532B7-9855-46F9-B1E7-522B3C36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39E82-CF31-4851-B8B1-3C977F5F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8D1E5-0737-47C2-A0B3-6C06307A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8DBDC-48E4-4474-AE3A-3E1EBEC0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B79C7-A9F7-43D3-8B74-481799D7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AB4-ECBF-4660-862D-3C3BDD5E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3A24C-3C6A-442C-9FBF-115B1B7F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70952-4A9D-4FFE-A183-968CFA85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133D4-B6AC-4585-97BF-49C9304B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889-3CE9-4551-9C32-A83A965D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9A7-5CDA-428F-A2AB-4ACFB587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6CEE-3F72-4EE0-B68E-EF569569C5B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4E8E-0D70-4913-9531-9B71F80DA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6831-3A0C-4459-8258-F5ED800D57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53E1-F2F4-4D15-AEBB-CD8A95CD7F4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52FF-B9DE-4500-87F3-B7C7A60C1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55D9-B408-4CB5-A5D6-345F56DB5D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djectives &amp; Adverb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lish Composition 1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essor Mue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uperlative Form cont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 the guideline and us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m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ever use bo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st lucki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son I kn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st funni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I have ever se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st happi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son I have ever 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ewer vs. L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omparativ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mpare non-count nouns (nouns that cannot be divid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play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ess mus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more commercials on the radio than ever befo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ess mone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my bank account than my sister has in 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ew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compare count nou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wer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our class than when the semester be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wer penn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my jar than my brother has in 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rregular Adjectives &amp; Adverb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common adjectives &amp; adverbs have irregular forms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d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vs.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djective, so use it to describe a noun or pro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ha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n adverb, so use it to describe a verb or an adjec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writ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lso be used as an adjective when it is describing someone’s health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m not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day. (adjectiv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e does not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fee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(adverb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rregular Adjectives &amp; Adverb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vs. Ba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djective, so use it to describe a noun or prono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has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put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d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dverb, so use it to describe a verb or an adj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behav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ad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school tod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rregular Adjectives &amp; Adverb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and Superlative forms of the irregular adjectives and adverbs are also irregula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the same comparative &amp; superlative form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comparati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have a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ca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han she does.  (adjectiv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fee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day than I did yesterday. (adver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superlati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 is the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bes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teach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t Blinn.  (adjectiv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writ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bes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when I’m not under pressure.  (adver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rregular Adjectives &amp; Adverb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a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ad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 the same comparative &amp; superlative for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mpar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has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I do. (adjecti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ee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I do. (adver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uperl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had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r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the class.  (adjecti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ee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s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has ever felt.  (adver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djective vs. Adverb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s or modifies a noun or a pro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info abo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ki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ich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how things look, smell, feel, taste,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s or modifies a verb, an adjective, or another adv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info abo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mu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what ex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end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–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ich one do I us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itical to identify which word is being modified in order to determine whether to use an adjecti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dverb as the modif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She runs s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 She runs slow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He is real ta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 He is really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dj. &amp; Adv. With Same For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djectives and adverbs have the same for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, far, fast, hard, high, late, often, past, right,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way to distinguish them is to identify what they mod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: 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rove around the cu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:  The c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ound the cu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parative For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ar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uns, us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ar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 of an adjective or ad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djective or adverb is one syllable, ad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–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o form the compar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all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my m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mar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is same pattern for adjectives that end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ut change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fore add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happi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han he i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at show is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unni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han the other o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parative Form cont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djective or adverb is more than one syllable, add the wor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form the compara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ore impress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your skills than he 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is eve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ore beautif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she used to 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parative Form cont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 the guideline and us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mo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ever use bo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re tal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my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show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re funn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the other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so mu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re happ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she used to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uperlative For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ar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or 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uns, us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perl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 of an adjective or ad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djective or adverb is one syllable, ad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–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o form the superl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am th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talles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 in my family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is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mart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erson in the cla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is same pattern for adjectives that end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ut change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fore add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happi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I’ve ever 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show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nni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tcom on T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uperlative Form cont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djective or adverb is more than one syllable, add the wor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form the superla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st selfi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son in our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st beautif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ress on tele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6:34:32Z</dcterms:created>
  <dc:creator>dawn.pickett</dc:creator>
  <dc:description/>
  <dc:language>en-US</dc:language>
  <cp:lastModifiedBy>KISD</cp:lastModifiedBy>
  <dcterms:modified xsi:type="dcterms:W3CDTF">2011-03-29T21:21:59Z</dcterms:modified>
  <cp:revision>10</cp:revision>
  <dc:subject/>
  <dc:title>Adjectives &amp; Adverbs</dc:title>
</cp:coreProperties>
</file>